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17.jpeg" ContentType="image/jpeg"/>
  <Override PartName="/ppt/media/image10.wmf" ContentType="image/x-wmf"/>
  <Override PartName="/ppt/media/image16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29E-2476-4D8A-9A08-31820B3B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A73D-2182-4B0C-89F2-5098D1A8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8DD-BEE9-488C-83E5-C2418C2D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720-0113-464C-9EE0-D9F31080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3F5-7DF7-4403-BAB2-517C9C69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28C-867B-4B69-98FC-683A012B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1FF-6D41-49CB-AB82-23805DBD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20A-6593-4336-A42B-AB241CFE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5801-54C0-4ACE-A96D-99F5F3DA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F0E-96BC-4851-9A39-466EB67E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4C41-CD2E-4B01-BE22-1CF44FBA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60E5-3102-4429-BA07-A46630EB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087F-3777-4EA4-84F2-37160CE6C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ensus.gov/prod/cen2010/briefs/c2010br-04.pdf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Why learn Spanish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MCj04238280000[1]"/>
          <p:cNvPicPr/>
          <p:nvPr/>
        </p:nvPicPr>
        <p:blipFill>
          <a:blip r:embed="rId1"/>
          <a:stretch/>
        </p:blipFill>
        <p:spPr>
          <a:xfrm>
            <a:off x="3276720" y="2438280"/>
            <a:ext cx="28954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815328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86742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fac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400 million people around the world speak Spa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Chinese, English and Spanish are tied as the two most frequently spoken languages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st used language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urope, Spanish is the most popular foreign language after Engl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98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Reas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knowing Spanish help your fu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Spanis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MCj04244640000[1]"/>
          <p:cNvPicPr/>
          <p:nvPr/>
        </p:nvPicPr>
        <p:blipFill>
          <a:blip r:embed="rId1"/>
          <a:stretch/>
        </p:blipFill>
        <p:spPr>
          <a:xfrm>
            <a:off x="5745240" y="1712880"/>
            <a:ext cx="1844640" cy="1959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MCj04247840000[1]"/>
          <p:cNvPicPr/>
          <p:nvPr/>
        </p:nvPicPr>
        <p:blipFill>
          <a:blip r:embed="rId2"/>
          <a:stretch/>
        </p:blipFill>
        <p:spPr>
          <a:xfrm>
            <a:off x="5780160" y="4216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73" name="WordArt 11"/>
          <p:cNvSpPr txBox="1"/>
          <p:nvPr/>
        </p:nvSpPr>
        <p:spPr>
          <a:xfrm>
            <a:off x="1981080" y="4724280"/>
            <a:ext cx="2057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$$$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99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Spanish is useful in many careers.</a:t>
            </a: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riter/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el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L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ranslator/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igence Speci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 Patrol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eign Affairs Speci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chool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igration Insp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national Ba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porat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national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, many mo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2057400" y="5791320"/>
            <a:ext cx="4238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$ = 100K/yr. or mor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Reas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Spanish challenge 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lot to lear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MPj04278250000[1]"/>
          <p:cNvPicPr/>
          <p:nvPr/>
        </p:nvPicPr>
        <p:blipFill>
          <a:blip r:embed="rId1"/>
          <a:stretch/>
        </p:blipFill>
        <p:spPr>
          <a:xfrm>
            <a:off x="4648320" y="2049480"/>
            <a:ext cx="40384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Reason #5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ave fu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MCj04246500000[1]"/>
          <p:cNvPicPr/>
          <p:nvPr/>
        </p:nvPicPr>
        <p:blipFill>
          <a:blip r:embed="rId1"/>
          <a:stretch/>
        </p:blipFill>
        <p:spPr>
          <a:xfrm>
            <a:off x="1295280" y="2133720"/>
            <a:ext cx="2743200" cy="335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MCj04363390000[1]"/>
          <p:cNvPicPr/>
          <p:nvPr/>
        </p:nvPicPr>
        <p:blipFill>
          <a:blip r:embed="rId2"/>
          <a:stretch/>
        </p:blipFill>
        <p:spPr>
          <a:xfrm>
            <a:off x="5486400" y="1371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MPj04329110000[1]"/>
          <p:cNvPicPr/>
          <p:nvPr/>
        </p:nvPicPr>
        <p:blipFill>
          <a:blip r:embed="rId3"/>
          <a:stretch/>
        </p:blipFill>
        <p:spPr>
          <a:xfrm>
            <a:off x="5562720" y="3505320"/>
            <a:ext cx="2593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5 major reasons why we should learn Span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ppreciate the importance of Spanish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municate with Spanish speak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elp your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challe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ave 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4495680" y="4267080"/>
            <a:ext cx="3429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¡Muy Bien Clase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5 main reasons we should  learn Span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knowing Spanish help us in the fu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5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Reas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 appreciate the importance of Spanish in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 communicate with Spanish speak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 help you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 be challe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 have fu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Reas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ppreciate the importance of Spanish in the U.S. you must first realize th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oper Black"/>
              </a:rPr>
              <a:t>Spanish influence is everywher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spanish signs"/>
          <p:cNvPicPr/>
          <p:nvPr/>
        </p:nvPicPr>
        <p:blipFill>
          <a:blip r:embed="rId1"/>
          <a:stretch/>
        </p:blipFill>
        <p:spPr>
          <a:xfrm>
            <a:off x="4114800" y="3886200"/>
            <a:ext cx="1752480" cy="160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U.S cities have Spanish influ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MPj04032270000[1]"/>
          <p:cNvPicPr/>
          <p:nvPr/>
        </p:nvPicPr>
        <p:blipFill>
          <a:blip r:embed="rId1"/>
          <a:stretch/>
        </p:blipFill>
        <p:spPr>
          <a:xfrm>
            <a:off x="525600" y="256212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MCj02317890000[1]"/>
          <p:cNvPicPr/>
          <p:nvPr/>
        </p:nvPicPr>
        <p:blipFill>
          <a:blip r:embed="rId2"/>
          <a:stretch/>
        </p:blipFill>
        <p:spPr>
          <a:xfrm>
            <a:off x="5708520" y="1649520"/>
            <a:ext cx="1917720" cy="208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MPj03861770000[1]"/>
          <p:cNvPicPr/>
          <p:nvPr/>
        </p:nvPicPr>
        <p:blipFill>
          <a:blip r:embed="rId3"/>
          <a:stretch/>
        </p:blipFill>
        <p:spPr>
          <a:xfrm>
            <a:off x="5942160" y="3938760"/>
            <a:ext cx="1450800" cy="2187360"/>
          </a:xfrm>
          <a:prstGeom prst="rect">
            <a:avLst/>
          </a:prstGeom>
          <a:ln w="0">
            <a:noFill/>
          </a:ln>
        </p:spPr>
      </p:pic>
      <p:sp>
        <p:nvSpPr>
          <p:cNvPr id="54" name="WordArt 12"/>
          <p:cNvSpPr txBox="1"/>
          <p:nvPr/>
        </p:nvSpPr>
        <p:spPr>
          <a:xfrm>
            <a:off x="1176480" y="2703600"/>
            <a:ext cx="67910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an you think of any mo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Reas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 we learn it to communic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is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st common language that is spoken in the U.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MPj04025940000[1]"/>
          <p:cNvPicPr/>
          <p:nvPr/>
        </p:nvPicPr>
        <p:blipFill>
          <a:blip r:embed="rId1"/>
          <a:stretch/>
        </p:blipFill>
        <p:spPr>
          <a:xfrm>
            <a:off x="457200" y="224784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sus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 Pop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ensus.gov/prod/cen2010/briefs/c2010br-04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982800" y="533520"/>
            <a:ext cx="71784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67820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2:59:47Z</dcterms:created>
  <dc:creator>ctaylor-simon</dc:creator>
  <dc:description/>
  <dc:language>en-US</dc:language>
  <cp:lastModifiedBy>Jose</cp:lastModifiedBy>
  <dcterms:modified xsi:type="dcterms:W3CDTF">2013-08-12T00:55:48Z</dcterms:modified>
  <cp:revision>24</cp:revision>
  <dc:subject/>
  <dc:title>Why learn Spanish?</dc:title>
</cp:coreProperties>
</file>